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21F-960B-4E6D-A986-2BA3EEE3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6DC-7C37-41A8-AF53-8695B12C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6D446-B8A8-4834-A477-615BFF9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0893F-860E-49DA-A36F-E5F5AA2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F7A99-1600-4EAC-9035-254E75C6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54A3C-D419-4499-A6D9-7177DC21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253D3-EE70-4633-A0C7-DCF3C585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5B589-4BFF-4917-9BAC-EA7422C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2DE33-1ACF-403D-A2B2-E7F2A0B8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F332A-24BA-4770-BBAC-24EFCB3D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9F938-FC80-4CA6-AE3D-460BF86F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43A56-1AD7-4BE0-8AF5-89E6E9E1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A1F-4A30-48A9-8575-9AA858CF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762CC-2B87-4BC1-A7EB-EC651779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6A3C1-7229-40F6-9008-94A97AC7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06C4E-0D78-443A-B2F6-026F9A06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CAB41-CFB7-4F36-BD4E-49B33949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86108-7136-4D47-B5EB-BDC37A3D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D21E3-B8E9-46AB-8454-B06F776F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E2D7D-E01F-4276-9E3E-40A1FF64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6FE3C-5E7C-44FB-8208-7C94367C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12722-6E2C-4786-A988-1C645718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EE112-D5E8-491E-B7BD-25097ACC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0E5-0A40-42A9-9448-998A4C30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9122A-97A0-42C8-BD7C-5D752F1B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6DDAE-08E3-47DD-8341-BD4CBFE0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4A561-A21E-4E79-9205-F1389502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FD0A9-0E9A-4BD4-B717-4480E35D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66E69-512E-4F0D-BC6F-49F70DD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9C7D0-C378-4B42-A219-ECAB7825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0EAE8-B3DE-4E6D-9C20-17628DFE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DD034-EAC5-4508-8BA8-258509C2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3C970-137E-4826-91B7-4A6D56E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EA075-B899-4D67-AE8A-52BCE481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A9A5-DEAA-482F-BAF8-4E8A5611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9E190-D6E0-4731-B1B6-EC26C6DB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E5C03-0CE0-40F7-A46B-882A2779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A79CA-964B-4574-AFE1-8F8A337F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5E5B1-FC7D-4B9F-B76F-60BFF3CD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00ADC-DEF2-4D5F-85A5-855FDE2F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E22F3-4189-4A0F-9539-AD368999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5646C-AFFE-42E3-9F16-7AB7951B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13FF3-608D-4451-9FEF-8F4B2194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55B9B-C402-4EBB-AE94-9A72080F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60312-9FF7-41A6-9EAC-56B92DB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2E47-2B3B-488D-8A5C-7770EAA5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7635D-8B2E-4363-B75B-41017DE9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E09AE-4B55-4B85-8467-6BD5931D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A2F38-BAB1-4327-8706-20D3C20A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176C0-7AD7-4D73-AF29-8D3E531B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83FF8-14FC-4813-A0F2-E9E7EA5E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819C9-FC02-46B1-9093-E8B806C1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C9665-CFC1-4327-8A07-F1F43056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A3ADE-0DC2-4E3B-AC76-97D33B4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13FE9-4895-43ED-9081-3CFD89EC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E3582-5E63-4B3C-85EA-EECF4E84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ECDB-0893-4B38-A9BD-50CFA42A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FADE9-2253-4686-99C5-5294CA54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1236A-2F05-4287-9EE0-7667D43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BE0A7-C97B-4C75-96CC-1451B0FC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D9E38-38F0-475B-8847-10B008E4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827E1-4E78-48EA-8E58-9EAE2023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0AEEA-D01F-49A6-8DAD-357D9878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7E1CD-F809-4CE4-A0E7-31DB3183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37ABF-8493-484B-8567-07C51988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B9F45-DD0C-40FF-9EF4-7DF71A35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496D3-CC29-431E-A679-8E41CB70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95AD-B0B4-4D2C-8985-BF2988A8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22CDB-36C2-40BF-91FA-CD81DE1E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53ED6-A512-4C0F-852B-BCE4E91D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DD27F-E8C1-4D8D-840C-6F66F3C9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BFF5F-8F01-41E0-9D20-E3043F6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35FF8-970E-4C93-8561-D2D40514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AA800-CA7A-4DC2-8ECA-7D5B9032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5312C-3C2A-4D88-BBD9-235A14C9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8AF10-D15C-470A-BC74-75B52C8E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1E2C7-48FD-4CC0-90C1-59DB5035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31366-6E2C-4482-9287-5561B284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770F-A465-4437-9465-6531ADB2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B1533-FD00-4CAA-88A0-D4268F41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48CA1-0A9E-4AAE-9CD8-DFCD1051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C2834-9175-4A8B-A7CE-F14A3270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FADD7-99B2-424B-8584-CCB63B44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1CA11-EE59-4EFA-84BD-0EB684F4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5C6A77-1E23-4637-99B4-6387AC8A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8D0DE-A371-42A8-A6EF-D64BA81B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FA553-25D7-4C8F-8D3E-8DDE219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0EFB5-ABDD-4D7B-A432-3545DA93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C7684-8601-48B7-B305-2BBA8073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CE7D-D390-4C98-8372-03146A1D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A6B43-6739-44C3-AA81-A296A57C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91441-8850-4062-8929-A174A628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58059-9D10-4CF1-866A-A67D96B0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01B15C-FC46-4F59-AF2F-DC5DBF92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D51605-E71C-4BA8-9197-159A9FF3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F5830C-30B8-4D80-BEF9-6AF13B72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8CE48-C960-418F-BD21-DA98EC7F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A6CA1-C306-4725-ACAC-DDF3D18F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86387-6CAC-42E4-81FB-A85F38A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3D8FC-B313-443C-8F67-A375FCC9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00C0-23DA-43E5-8184-A9281621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E7698-8C03-4FF4-A22B-3272C662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ED2C9-A8D5-4557-8440-2A0AFF82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19043-BFD0-4D68-AF7C-E14F8DD9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EC60D0-F353-48ED-8C94-72AAB871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4FE7F-68B7-43BF-8DB8-1DFC9475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E0FF0-DB2B-45B8-AED7-0BF8ED5A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E015C-99EF-444F-9016-2AC44B37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BB9FB-8A20-490A-9EAB-077B1A64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8877E-127B-4853-8967-6B8A3186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C614CC-E857-4CE4-AAA9-005CA5F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560-B238-4C91-B6FF-40F9A823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DAC4-B624-4A47-9DBE-985C8EB0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FE448-99C5-4291-9843-5301E6CE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7D69B-1CE0-4763-91EC-F783B35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F02CA-8E3F-4436-843A-0F947658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3C8DF-8140-4287-8964-F8FD1C1A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7A47F-A948-49D0-BE97-6E7271E2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223ED9-81DA-4AED-950C-B7E5B64A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8705E-57D8-4D17-BE09-AAEC4708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5806E-7E4D-4D59-8C08-633F3756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EBF2D-ECA7-4BCE-9EA1-8BFBF058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CF6A7-0CD9-4254-9C48-ADD75F41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25CF-CD46-448D-8EF2-27D64DBF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BE17F-8696-4201-90A0-BD0CD3D9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2D076-53D3-41F9-8325-50D4466A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2C39C-0376-44C0-BA48-E80C9DD1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A604F-B85E-492F-888A-206188B6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5008B-55C8-4B00-960E-2AC2DEBA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D191E2-1986-46EE-973A-85DF46D8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69B08-636F-431B-972E-C6F4ACF4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DFCAC-F0BC-45A0-8295-21790BBD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34235-F486-448C-AB16-DC0DE765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F6F78-508B-4B5A-BB44-01756B02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16E7-D69F-4E8B-B4C6-979ED6B3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F4961-F3FD-4DF6-B113-752A761B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335FD-7C65-412D-8A55-51912B7E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221954-280B-4896-82ED-263FD0FD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C4B1D-3A24-429B-B80B-03FAC90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3D5FB4-39EC-4A8B-B0D7-86B12EB2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4A3B6-CFF8-41B6-A869-99AFDEDE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626E4-F0E9-4C2C-A672-0AA64133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43D78-BE86-4A3B-98FD-FEA8E8F6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77552-4C4E-4B60-B467-7D458DAF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D8F359-F481-4BBE-8D26-81786705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7102-44BE-478B-81C8-F154FEA4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27A4D1-EBF8-4BE7-9C83-8C40AA9C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2AF31-E510-4C95-9D15-87A0F55C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A67C0E-52F6-4981-B78D-B8F8A3D4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658B9-9B76-441F-AECC-B62DC6A6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D1ADB3-2404-433A-8EA9-7D7A535D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29086-F43C-4290-9A05-FB6EDA6C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00C5BE-7636-41F3-B01F-417E1E1C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8E8777-6463-4804-8F44-B83D615A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391ACB-DFC9-4EA8-BC7E-5B785C25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3E031C-F351-4027-8E20-74ADE43A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2B73-9377-4D85-BA17-306AF569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44B5B-7E02-4690-8B58-1219F79F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E02793-DF37-4AD6-956F-8C89EC46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17D47-E5B2-4ACA-AE85-68B7BFB4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2640EE-0C2E-4D6F-A320-B89223DF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4B69C9-6BC7-49E7-9B52-A3F73366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D9F9E0-7C20-4CBD-AF09-F194734C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CE6022-5044-4C52-B1C7-B5B162B2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C21E4E-B6B5-4EC4-B46E-62984695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CB86B-122A-44A8-A1F0-ED793857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95DBD-F8D8-499E-94C1-67A58EF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B70F-3D76-4DFF-975A-68CDC11A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73D309-35E4-4D1A-8266-5018EE12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C14778-A982-4B75-A454-01E8AECD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B6F476-4B9D-4501-A2FD-9C9D5439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3C7613-FBFA-4C03-A827-77A8E0C9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60959E-EDEB-46D0-914E-D7DC916E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CE0A84-0CFB-4279-B79E-F422EAEE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8825F4-D112-430C-AEDC-7E701A7E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2F2B2B-B32A-4182-A29B-9BBDC7AA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4B4E83-8771-4DF6-9EFB-B819E7B3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DA4FC6-3EEE-45CB-B222-C606AF85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7266-C5B0-4D1D-A715-CB05D2E3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0C9795-DD95-45C4-9230-AAB4D514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2A9AFC-FD85-4299-B228-F45A1633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FAB38B-FB22-45F1-AF7E-617088D7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662165-9E97-4F29-BAB1-37222246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C131FD-457F-418A-AC91-26685F87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B1547C-2AD8-4918-BEE1-A973EAE2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2E957B-960B-48EB-9200-F72B22A9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43AB6A-8C09-48CA-9678-24A823EA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BD62AC-1E7E-48A6-A447-21C5E2A6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6752FB-AF7F-42CE-83D3-28402CF4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971A8-6743-48CC-8C9C-BB1FD524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0766CD-71AC-4965-82EF-77145C9F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F00D3F-ABFF-4984-A70B-BAFE41E1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CEF637-E4AE-4D86-B27D-C342F994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686667-3E12-420E-8FD6-28EA1CE1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0361BB-695F-4149-8FD9-5F77443A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8827D0-0D96-424E-96B5-86612201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199890-9AB7-4BB4-8EDE-E5A657E1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385F-FE2B-40BF-AB38-223BAD8D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226A5-DF26-4A36-9D08-944C67CF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788-8CD9-4986-87FB-CC0EB284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2064-215C-45EE-AE56-54CE581B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1B02-D550-41CE-986B-C62FE913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B9C2-4B33-4F25-9EE7-29EB3760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D219-A3E4-40C6-B00F-4529D513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A8DC-38F5-4AF2-A295-800AC735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36045-84E4-4DFF-9CE0-948CE6E4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849E-F318-4EB4-AA15-5D97C8D2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9C94-C473-44E5-BFFB-C8EABAF4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9D43-E0C5-4D6B-AD1F-BC75EBA2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88CE1-4FAA-403A-B23D-0F147E72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40F-501A-4A02-B2F4-8A63F3A0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DF0D-1CF7-4219-B70F-D91F8BE8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2D131-0B45-4BF0-9170-5885E627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163B-684E-4463-ABCB-23A7C189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2FA1-12DE-4089-9264-CF65A2F0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2FD3-5467-4AB7-BC5E-F7065CD2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9EBFD-723C-4DC1-90A6-F43428D7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3F30-CAE1-45E9-9B9C-295D669B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000A-3020-4CED-A193-345E1B61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635A-43A7-4584-BFDD-CE9146DA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E4E98-2D7D-4E58-959F-3D2B14A6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C01-1804-4056-9B06-8ACE19DB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682EC-9105-4921-B476-5D391C34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45325-2412-438C-93AC-44F584CE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89297-BD2D-421A-922A-2F0D23F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0285B-8607-4019-9B39-49C3D340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4A6BC-62F7-4EFC-9233-297E3494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F97B-916F-4AF1-B224-FF3C82B5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DF60-1D31-4A8A-9D31-2B4C94CC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65CA9-28F8-460F-9318-D6A61BDE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F8A6F-2852-42AA-A33E-FB8E0CA8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71058-1213-4017-B4BF-CA960371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01A-AAFE-4A43-A09C-0FD3A28E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957B5-CFC8-44AB-B8CF-066E456F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2408-8C19-4B4D-9B06-3A65892C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7BC1C-9A5A-4816-BC6B-709B14E4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171E6-32CC-40E8-AA02-9CAA60B2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0A859-8247-4B1D-B6AC-F5FD7050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62243-A56D-4FBC-81CA-75774839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9635F-0A6C-433B-9E8C-9683E89D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D9A1A-259B-452B-8DE9-FFB6B97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2840D-EF07-4C2B-8671-9426687F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7561-CD28-4D6A-91B7-70340332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17B-6D8A-462F-8111-F2046823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57974-1C48-4A5A-B7D0-C4840546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94F05-7288-402B-9F14-004A7368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69949-38CF-47EA-845E-6928C457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134A5-1896-4AE2-81BC-366791F9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57198-8346-4409-86C4-BFB3EF28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A5344-2540-44E6-A268-6D72B9F5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08128-F1B0-429A-9BEC-DC80F199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44CB4-59B7-42B7-B8D2-5CFE09D6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753F2-16B4-4026-9E52-E01187D3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D95D1-158A-40D5-93A0-C3DFB66B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09A-7F60-42AB-9051-88C5EE1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1E323-5FE3-4BB0-92FD-24C2BD2D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72ABB-3F3E-4B04-B3EF-C6C240E7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28A27-F959-49C2-9B84-C954EEF2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B5F0A-8B9A-4000-89D9-2D6AE62A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E690F-3FB1-4ACE-AC0E-79A30D34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C99C7-D755-4C56-9AD1-291395A5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454CB-303E-4ADC-BC2D-1ECCFD99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90DDE-9D68-474E-8606-BC67CF4E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7F844-0774-4B03-BBDF-7ED9C43E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4BAD0-5CF5-49E6-A940-FF377606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281-3B14-41FA-93C0-9906F3D9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41FEA-13A2-4C57-BDF1-A7D5A2D5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0A251-EC8C-4E4E-9661-5BC25ADA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FE9C1-2965-4692-BF9E-12491EDE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B541E-C3AD-4CBE-957B-014D4D64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DB9F1-694B-4749-8EEA-7242FC57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635EA-3D17-4238-9067-BFAEF6DA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3D324-C062-448E-90E1-5E9287F3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A8017-D64C-461B-A542-86A15EE2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39508-BCCB-4263-9ACC-FD6BE528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92B29-7658-4132-809B-2C01BE64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22BD-5D4F-4481-9363-954104F7FF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8396-8ED7-4E56-940E-A1D1176D98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2AC4-4FBF-431E-9B9C-00754C4FD9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9891-99F6-4CF5-B188-80A6E65CF8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82E9-702F-4F18-88D5-407BB03124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3B05-752C-499E-BFD3-80809C4065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0CE5-8D5C-43A2-9AC1-5BF41B2B07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8D0F-16C2-4181-938E-F21E5B2B4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4C4E-5E7F-4F85-B09B-6CAC616830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648B-6B09-48FD-9670-F89C52239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E692-DE49-4CFD-A1A4-C01A9F018E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4913-9440-44A5-841D-21596A94B4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9877-0101-47D2-A6AD-29FB268D5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BCF0-CD06-413F-B3DD-DA38E4428F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6D3B-87A6-4998-9B7E-842927400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F148-E6C9-46A8-8248-B6BC9FC198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7386-841A-4CFA-954B-58A99CEAEB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28A2-21C0-4708-8CE8-CEEEE2D6D9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F618-1905-4C83-B66A-733EEA802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FED8-4F73-46D6-BFEF-F1E53DBCC8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8060-736B-496A-A47E-43B3743A14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5C77-F25E-450D-84A3-8613585DA6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21E1-2AD3-4547-907C-A291EE402B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5AAE-01A2-4402-B1D4-5F2EA3A55F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3493-5C7D-4E0F-9F33-3A45FCECF9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6FB8-D23F-4CC8-994D-755D40CD64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7DAC-025D-4933-932D-D0D2092367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7813-EF8A-45BF-8CF0-99C1739E00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5ED6-E8C4-427B-B248-9A32073B75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0164-105B-466B-979F-0A02A76681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73CA-07EF-4EBE-821C-69E93B336B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5AF7-7904-4620-920F-0246D00E35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EDAB-945F-4CC6-8260-0C6819DA86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A329-44D2-460A-A35B-0846D19980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F838-17DC-4CF4-BDE3-B4C869B526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C11E-130E-4E9C-8570-F1D8050447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BD4F-CADB-493D-8D83-8AD9EF76CC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3DC-6F76-4B77-B130-F9905D4AE4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89A4-1148-49AE-8B76-E9915C2AA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36F0-031C-40D9-AECC-5623DBCE03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E3EC-6B1D-496B-B1F4-220604FE2F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C1BE-DBA4-468F-8906-9638EFC2A6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3760" y="2143080"/>
            <a:ext cx="9096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9520" y="942840"/>
            <a:ext cx="8724960" cy="5572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1338120" cy="4249440"/>
          </a:xfrm>
          <a:prstGeom prst="rect">
            <a:avLst/>
          </a:prstGeom>
          <a:ln w="0">
            <a:noFill/>
          </a:ln>
        </p:spPr>
      </p:pic>
      <p:grpSp>
        <p:nvGrpSpPr>
          <p:cNvPr id="1008" name="组合 6150"/>
          <p:cNvGrpSpPr/>
          <p:nvPr/>
        </p:nvGrpSpPr>
        <p:grpSpPr>
          <a:xfrm>
            <a:off x="5651640" y="1801800"/>
            <a:ext cx="1657080" cy="3917880"/>
            <a:chOff x="5651640" y="1801800"/>
            <a:chExt cx="1657080" cy="3917880"/>
          </a:xfrm>
        </p:grpSpPr>
        <p:pic>
          <p:nvPicPr>
            <p:cNvPr id="1009" name="Picture 1" descr=""/>
            <p:cNvPicPr/>
            <p:nvPr/>
          </p:nvPicPr>
          <p:blipFill>
            <a:blip r:embed="rId3"/>
            <a:stretch/>
          </p:blipFill>
          <p:spPr>
            <a:xfrm>
              <a:off x="5651640" y="1801800"/>
              <a:ext cx="1338120" cy="28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1" descr=""/>
            <p:cNvPicPr/>
            <p:nvPr/>
          </p:nvPicPr>
          <p:blipFill>
            <a:blip r:embed="rId4"/>
            <a:stretch/>
          </p:blipFill>
          <p:spPr>
            <a:xfrm>
              <a:off x="6732720" y="4292640"/>
              <a:ext cx="5760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Picture 1" descr=""/>
            <p:cNvPicPr/>
            <p:nvPr/>
          </p:nvPicPr>
          <p:blipFill>
            <a:blip r:embed="rId5"/>
            <a:stretch/>
          </p:blipFill>
          <p:spPr>
            <a:xfrm>
              <a:off x="5651640" y="4998960"/>
              <a:ext cx="144144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733320" y="2266920"/>
            <a:ext cx="7677360" cy="23241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1366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57040" y="1604880"/>
            <a:ext cx="8629920" cy="36482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795672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7956720" y="29973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7956720" y="3573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7956720" y="4149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7956720" y="472428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561960" y="106200"/>
            <a:ext cx="8399520" cy="66456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2124000" y="334152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2050920" y="6135840"/>
            <a:ext cx="431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609480" y="177840"/>
            <a:ext cx="7661520" cy="6645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403280" y="2851200"/>
            <a:ext cx="30974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403280" y="6267600"/>
            <a:ext cx="309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181080" y="957240"/>
            <a:ext cx="8781840" cy="49435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453708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042920" y="5445000"/>
            <a:ext cx="453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95200" y="52560"/>
            <a:ext cx="8553600" cy="67528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1116000" y="504180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1116000" y="566100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1042920" y="6237360"/>
            <a:ext cx="36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576360" y="1398600"/>
            <a:ext cx="8342280" cy="178740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2" descr=""/>
          <p:cNvPicPr/>
          <p:nvPr/>
        </p:nvPicPr>
        <p:blipFill>
          <a:blip r:embed="rId2"/>
          <a:stretch/>
        </p:blipFill>
        <p:spPr>
          <a:xfrm>
            <a:off x="1233360" y="3568680"/>
            <a:ext cx="7029720" cy="2295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329076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3348000" y="23194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5651640" y="1844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536400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8143920" y="184464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8272440" y="234936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9"/>
          <a:stretch/>
        </p:blipFill>
        <p:spPr>
          <a:xfrm>
            <a:off x="3348000" y="427824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0"/>
          <a:stretch/>
        </p:blipFill>
        <p:spPr>
          <a:xfrm>
            <a:off x="2973240" y="4869000"/>
            <a:ext cx="74952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1"/>
          <a:stretch/>
        </p:blipFill>
        <p:spPr>
          <a:xfrm>
            <a:off x="6732720" y="422100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2"/>
          <a:stretch/>
        </p:blipFill>
        <p:spPr>
          <a:xfrm>
            <a:off x="7093080" y="4869000"/>
            <a:ext cx="749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9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